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y 16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4674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ott Cain, CSH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gmod_cog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1122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gmod_cog" descr=""/>
          <p:cNvPicPr/>
          <p:nvPr/>
        </p:nvPicPr>
        <p:blipFill>
          <a:blip r:embed="rId1"/>
          <a:stretch/>
        </p:blipFill>
        <p:spPr>
          <a:xfrm>
            <a:off x="0" y="0"/>
            <a:ext cx="8991720" cy="66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‘Problems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ing all features ‘part_of’ chromosome (redundant with srcfeature_id in featurelo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ing analysis results children of ge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Browse chado adaptor bugs (all squashed now :-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ttle stuff—getting parsers and loaders bug f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ture pl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tion to new release of turn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ansion of genotype and stock data to include RNAi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ll out of full genome in Fall ’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sibly, community reannotation using Apollo with chado and direct read/write (I set up a proof of concept in one of their chado databases with the Apollo functions and triggers and demonstrated that the chado adaptor worked (although it named the new genes ‘RICE000001’, etc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front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87760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search" descr=""/>
          <p:cNvPicPr/>
          <p:nvPr/>
        </p:nvPicPr>
        <p:blipFill>
          <a:blip r:embed="rId1"/>
          <a:stretch/>
        </p:blipFill>
        <p:spPr>
          <a:xfrm>
            <a:off x="781200" y="557280"/>
            <a:ext cx="7581600" cy="57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genotype" descr=""/>
          <p:cNvPicPr/>
          <p:nvPr/>
        </p:nvPicPr>
        <p:blipFill>
          <a:blip r:embed="rId1"/>
          <a:stretch/>
        </p:blipFill>
        <p:spPr>
          <a:xfrm>
            <a:off x="590400" y="452520"/>
            <a:ext cx="796320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stock" descr=""/>
          <p:cNvPicPr/>
          <p:nvPr/>
        </p:nvPicPr>
        <p:blipFill>
          <a:blip r:embed="rId1"/>
          <a:stretch/>
        </p:blipFill>
        <p:spPr>
          <a:xfrm>
            <a:off x="576360" y="1076400"/>
            <a:ext cx="799128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gene" descr=""/>
          <p:cNvPicPr/>
          <p:nvPr/>
        </p:nvPicPr>
        <p:blipFill>
          <a:blip r:embed="rId1"/>
          <a:stretch/>
        </p:blipFill>
        <p:spPr>
          <a:xfrm>
            <a:off x="714240" y="495360"/>
            <a:ext cx="77155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gbrowse" descr=""/>
          <p:cNvPicPr/>
          <p:nvPr/>
        </p:nvPicPr>
        <p:blipFill>
          <a:blip r:embed="rId1"/>
          <a:stretch/>
        </p:blipFill>
        <p:spPr>
          <a:xfrm>
            <a:off x="442800" y="452520"/>
            <a:ext cx="825840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gbrowse_details" descr=""/>
          <p:cNvPicPr/>
          <p:nvPr/>
        </p:nvPicPr>
        <p:blipFill>
          <a:blip r:embed="rId1"/>
          <a:stretch/>
        </p:blipFill>
        <p:spPr>
          <a:xfrm>
            <a:off x="685800" y="790560"/>
            <a:ext cx="77724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da and Olivier are both very happy with the GMOD tools they’ve used so f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of GBrowse is quite good, chado’s is not bad (at least for installation), and turnkey’s, well, is coming alo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oal of having it installable by a biologist and a sysadmin working together is largely realized for the core GMOD apps, though improvements to user interface are always welcom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mod up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mod-0.003-RC2 last we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or 0.003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ic triggers for Apo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eatly enhanced gff3 bulk loa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n’t depend on Class::D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tags but Gap suppo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s refseqs/srcfeatures/chromos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s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tter support for multiple datab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xt GMOD me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SHL Advanced bioioniformatics, Oct 12-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MOD Meeting, Oct 26-27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SHL Genome Informatics, Oct 28-Nov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ring the Biocurator meet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DO for gmod-0.0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odify the bulk loader to allow 'mixed' GFF3 files (that is, containing both analysis results and annotations). See perldoc gmod_bulk_load_gff3.pl for more inf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odify the bulk loader to optionally spit INSERT statements in the the files rather than the COPY FROM STDIN format as a fall back for really big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odify the bulk loader to (optionally) make gene (foster) parents for orphan transcript typ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eprecate the use of gmod_load_gff3.pl in favor of the bulk lo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igrate ontology loading to use go-perl (instead of Class::DBI--which may completely eliminate the need for having Class::DBI installed (except for turnkey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lesh out Apollo stuff to be more transparent to the person doing the 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ake a decision on sequence shredding and implement appropriate views and func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eifbkg" descr=""/>
          <p:cNvPicPr/>
          <p:nvPr/>
        </p:nvPicPr>
        <p:blipFill>
          <a:blip r:embed="rId1"/>
          <a:stretch/>
        </p:blipFill>
        <p:spPr>
          <a:xfrm>
            <a:off x="0" y="0"/>
            <a:ext cx="3335400" cy="51814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666880" y="304920"/>
            <a:ext cx="4267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ting up ParameciumD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819160" y="3657240"/>
            <a:ext cx="4343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or my trip to Fran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C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MOD Meeting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16-17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stick_me" descr=""/>
          <p:cNvPicPr/>
          <p:nvPr/>
        </p:nvPicPr>
        <p:blipFill>
          <a:blip r:embed="rId2"/>
          <a:stretch/>
        </p:blipFill>
        <p:spPr>
          <a:xfrm>
            <a:off x="6843600" y="1905120"/>
            <a:ext cx="230040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cium community is fairly small and largely Europe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 at CNRS, Gif-sur-Yvet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ciumDB is has two develop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da Sperling, Centre de Genetique Moleculaire faculty member with an interest in bioinforma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livier Arnaiz, MS Bioinforma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use GMOD 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reen paper (Nov. ’01) that said that the target was ‘small’ MODs, with the goal of having reusable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 developers on the main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Michael Ashburner and Lincoln Stein are involved, that’s the project for m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itial Go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all (much of this was accomplished before my arrival in France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Brow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rn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e with the megabase (a one megabase section of the genome hand assembled and curated); complete genome to come later this ye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sues they fac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nt control, both for versioning and rolling out to staging and production serv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rporation of custom mod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ting turnkey ‘to work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 editing of perl modules and templates from gmod-web-RC1 (about 6 months ol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ciumDB stock mo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stock" descr=""/>
          <p:cNvPicPr/>
          <p:nvPr/>
        </p:nvPicPr>
        <p:blipFill>
          <a:blip r:embed="rId1"/>
          <a:stretch/>
        </p:blipFill>
        <p:spPr>
          <a:xfrm>
            <a:off x="-228600" y="1143000"/>
            <a:ext cx="9524880" cy="57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5T19:09:06Z</dcterms:created>
  <dc:creator>Scott Cain</dc:creator>
  <dc:description/>
  <dc:language>en-US</dc:language>
  <cp:lastModifiedBy>Scott Cain</cp:lastModifiedBy>
  <dcterms:modified xsi:type="dcterms:W3CDTF">2005-05-17T15:07:13Z</dcterms:modified>
  <cp:revision>10</cp:revision>
  <dc:subject/>
  <dc:title>Setting up ParameciumDB</dc:title>
</cp:coreProperties>
</file>